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A967-CEC2-43D5-B752-08CFF329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4AA-6826-4E6D-BFD3-4A3323FD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EEAF-8050-4930-A2C2-5FC707EF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7BB-C4C6-4571-BF94-AC5DAD92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B8F-1EFD-434B-BB83-5E382FC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26C-63C0-42D8-95F8-1266148C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C46-0EDF-4942-8893-9CC38908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390-4C55-4353-98D7-2F612E24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414-2FA4-4F2B-9239-0AD5A3B6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ACD6-9C48-4826-85C0-2F097FD4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D13E-9DDB-4C72-8A95-90A60304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F7A-D956-42DB-BAE3-39608E7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9060-F7BA-4623-9EAD-1E3E832ED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al testo di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homas Gordo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segnanti efficaci,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iunti e Lisciani ed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48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PERSUASIVITÀ-EFFICACIA NELLA FORMAZIONE E LAVORO DI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iarire le responsabilità di ognuno cre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il senso di appartenenza alla comun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formatore rimuove le barriere eventuali che impediscono al gruppo di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lavorare insieme in modo effic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duce il gruppo di allievi vers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 una comprensione auto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 motivazioni all’apprendimento signifi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- autovalu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907920"/>
            <a:ext cx="69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9079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27640" y="5084640"/>
            <a:ext cx="660240" cy="14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377-3C9D-4B60-A695-DB43F10CCB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UASIVITA’ NELLA FORM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 leva s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icerca del punto di vista degli altri (</a:t>
            </a: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role taking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) perché ciò serve a costruire un comune impegno per modificare positivamente l’azione form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voro collegiale per costruire lo spirito di squa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 possibilità di trasmettere val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Il lavoro di squadra serve non solo per la scuola ma per la vita. Attraverso di esso si acquisisce il senso di appartenenza ad una comunità e si impara a relazionarsi con gli altri, fattore fondamentale nella vita e ne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588000" y="1268280"/>
            <a:ext cx="1567080" cy="18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807F-EB12-4A78-B1FD-6D6EFB0983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FORMATORE PERSU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Usa la logica per persuader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[argomentazioni dialettiche-chiarezza espositiv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Cita e utilizza fonti attendibili e verific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Persuade attraverso l’esempio comportam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Arial"/>
              </a:rPr>
              <a:t>Utilizza le tecniche dell’influenza indirett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Arial"/>
              </a:rPr>
              <a:t>(cfr. teoria dell’agenda-setting, sociologia della comunicazi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59640" y="1125360"/>
            <a:ext cx="132696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798-DABA-4F2F-8138-9C909650B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7:01:38Z</dcterms:created>
  <dc:creator>user</dc:creator>
  <dc:description/>
  <dc:language>en-US</dc:language>
  <cp:lastModifiedBy>user</cp:lastModifiedBy>
  <dcterms:modified xsi:type="dcterms:W3CDTF">2005-02-09T17:41:41Z</dcterms:modified>
  <cp:revision>4</cp:revision>
  <dc:subject/>
  <dc:title>Dal testo di Thomas Gordon Insegnanti efficaci, Giunti e Lisciani ed., 1998</dc:title>
</cp:coreProperties>
</file>