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0DC-8649-4EE8-9793-E832BCC51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479C-0271-4FD2-A683-73381FB3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9ACF-5BC5-464D-B419-155C2E49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106D-0471-4F07-89E2-B9326B32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294D-7067-4129-AF5E-1A3A9C2F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09CB-B93E-486C-B051-85A1CC96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AF41-3B2C-40A0-8206-AD37B84C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23F6-277E-4AAA-8B00-5B07BFE0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FED5-9DB9-46A5-80F8-6AFFE73C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9EE1-6C02-4DA6-B4B5-38D83903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80C-E52E-43D9-902B-48478D60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901-7739-441F-AD8D-CC92011A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79BB-C64C-47A8-B12D-29B4634F8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16800" y="971640"/>
            <a:ext cx="510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Il tema dell’efficac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ell’insegna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30480" y="2719440"/>
            <a:ext cx="32702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apacità di relazionarsi agli alt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vere ascendente sugli altr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aper lavorare in squadr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omprendere gli alt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l Clima della cla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Facilitare l’organizzazione dell’appren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artecipazione attiva alle le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icur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mbiente produ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 John Dewey</a:t>
            </a:r>
            <a:r>
              <a:rPr b="1" i="1" lang="it-IT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1859/1952) si può affermare</a:t>
            </a:r>
            <a:br>
              <a:rPr sz="2000"/>
            </a:br>
            <a:br>
              <a:rPr sz="2000"/>
            </a:br>
            <a:r>
              <a:rPr b="1" i="1" lang="it-IT" sz="3200" spc="-1" strike="noStrike">
                <a:solidFill>
                  <a:srgbClr val="cc6600"/>
                </a:solidFill>
                <a:latin typeface="Times New Roman"/>
                <a:ea typeface="Arial Unicode MS"/>
              </a:rPr>
              <a:t>“tutti gli uomini nascono liberi, ma le regole sociali preservano la libertà e la democrazia è l’unico strumento di effettiva emancipazione</a:t>
            </a:r>
            <a:r>
              <a:rPr b="1" i="1" lang="it-IT" sz="3600" spc="-1" strike="noStrike">
                <a:solidFill>
                  <a:srgbClr val="cc6600"/>
                </a:solidFill>
                <a:latin typeface="Times New Roman"/>
                <a:ea typeface="Arial Unicode MS"/>
              </a:rPr>
              <a:t>”</a:t>
            </a:r>
            <a:br>
              <a:rPr sz="3600"/>
            </a:br>
            <a:r>
              <a:rPr b="1" i="1" lang="it-IT" sz="3600" spc="-1" strike="noStrike">
                <a:solidFill>
                  <a:srgbClr val="cc6600"/>
                </a:solidFill>
                <a:latin typeface="Times New Roman"/>
                <a:ea typeface="Arial Unicode MS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6858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6600"/>
                </a:solidFill>
                <a:latin typeface="Times New Roman"/>
              </a:rPr>
              <a:t>Premes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7948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2057400"/>
            <a:ext cx="81536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Il passaggio straordinario dall’essere insegnanti al divenire maes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Il grado di capacità dell’insegnante nello stabilire un determinato rapporto con gli stu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Una relazione di reciproco risp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Autos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THOMAS GORDON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Insegnanti efficaci,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Giunti e Lisciani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 tre fattori che accrescono l’efficacia dell’insegn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626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Le competenze didatt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Le caratteristiche profession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clima della c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5796000" y="2060640"/>
            <a:ext cx="1441440" cy="4248000"/>
          </a:xfrm>
          <a:custGeom>
            <a:avLst/>
            <a:gdLst>
              <a:gd name="textAreaLeft" fmla="*/ 0 w 1441440"/>
              <a:gd name="textAreaRight" fmla="*/ 520560 w 14414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3243240"/>
            <a:ext cx="189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6600"/>
                </a:solidFill>
                <a:uFillTx/>
                <a:latin typeface="Times New Roman"/>
              </a:rPr>
              <a:t>Il val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6600"/>
                </a:solidFill>
                <a:uFillTx/>
                <a:latin typeface="Times New Roman"/>
              </a:rPr>
              <a:t>aggi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Le competenze didattiche vengono descritte </a:t>
            </a:r>
            <a:br>
              <a:rPr sz="3200"/>
            </a:b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in otto voc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spettative ele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rogram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etodi e strate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Gestione degli alunni\discip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Gestione del tempo e delle ris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Valu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ompiti a c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oncentrazione degli alunni e ritmo della l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Le caratteristiche professional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Deontologia profess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apacità intellettu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apacità di programm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apacità di gu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apacità di relazionarsi con gli alt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Deontologia professiona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apacità di proporre sfide e sostener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Fiducia in se stess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apacità di ispirare fiduci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Rispetto verso gli alt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apacità Intellettual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62481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apacità di analis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apacità di sinte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apacità di programmare e </a:t>
            </a:r>
            <a:br>
              <a:rPr sz="3600"/>
            </a:b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reare aspett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147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apacità di guidare il miglioramen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apacità di creare informazion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Spirito d’inizi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Capacità di gu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Flessibilità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apacità di responsabilizzare gli altr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Capacità di gestire gli alunn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assione per l’apprendi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16:32:23Z</dcterms:created>
  <dc:creator>Dora</dc:creator>
  <dc:description/>
  <dc:language>en-US</dc:language>
  <cp:lastModifiedBy>user</cp:lastModifiedBy>
  <dcterms:modified xsi:type="dcterms:W3CDTF">2005-06-07T17:13:54Z</dcterms:modified>
  <cp:revision>10</cp:revision>
  <dc:subject/>
  <dc:title>Diapositiva 1</dc:title>
</cp:coreProperties>
</file>