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1792-5DB0-4DD8-AEC9-805226FC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008E-A156-410E-9FBD-B5C21FA0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4DC3-08CE-4C3E-A65E-B8A09621A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8B15-123C-4C01-9C70-F63BA4E2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8DE9-3D6A-4E5A-A39F-2C82CE67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2F7B-80E3-4FC4-A272-24C24D8C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C8B6-647D-4D4D-BF2B-DEFBAF51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EDFD-CB0E-4A6B-BC1B-178D9C72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3695-2665-48B0-9866-A9B51D8D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AC38-DDC4-4F1A-979E-0234C333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FCEA-73A8-44E7-AE12-EB84E01E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531C-E4A1-437C-98A5-AF64DD38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7899-7EE2-4E3E-B13F-95E56C85637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39840" y="2133720"/>
            <a:ext cx="7219800" cy="17398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 MANOVRA GELMINI SPIEGATA AL MIO VICINO DI CA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6548-5BD4-40B7-A715-30A29E97DD15}" type="slidenum">
              <a:t>1</a:t>
            </a:fld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72880" y="333360"/>
            <a:ext cx="8569440" cy="4597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uola secondaria di I g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5840" y="1125360"/>
            <a:ext cx="8569080" cy="4597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orario settimanale passa da 32 a 29 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6120" y="1755720"/>
            <a:ext cx="8569440" cy="82548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valutazione è espressa in decimi, c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 in condotta si bocci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0520" y="3773520"/>
            <a:ext cx="8569440" cy="4597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uola secondaria di II g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0520" y="5757840"/>
            <a:ext cx="8569440" cy="82548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orario settimanale sarà infatti fino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0 ore nei lice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2 in tecnici e professio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754360"/>
            <a:ext cx="8569080" cy="82548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utte le cattedre devono essere di 18 ore fronta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che se si interrompe la continuità didattica delle cla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4405320"/>
            <a:ext cx="8569080" cy="119124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troduzione dell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iforma Morat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sì come modificata da Fioroni (i tecnici ed i professionali non scompaiono), ma con quadri orari rido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8A52-ABBA-4566-96D4-208EB817A9AD}" type="slidenum">
              <a:t>10</a:t>
            </a:fld>
          </a:p>
        </p:txBody>
      </p:sp>
    </p:spTree>
  </p:cSld>
  <p:transition spd="med">
    <p:dissolv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72880" y="1814400"/>
            <a:ext cx="8569440" cy="82548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 delle ore di compresenza in laboratorio con gli insegnanti tecnico pra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5840" y="3111480"/>
            <a:ext cx="8569080" cy="82548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zione degli indirizzi dei professionali simili ad indirizzi già esistenti nei tecn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6120" y="4464000"/>
            <a:ext cx="8569440" cy="192276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 5 in condotta si boccia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ziativa inutile e demagogica. La disciplina non si ottiene con lo spauracchio del manganello, bensì attuando Regolamento d’Istituto e Statuto delle studentesse e degli studenti, che già prevedeva la possibilità di sanzioni pesanti fino alla boccia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1160" y="549360"/>
            <a:ext cx="8569080" cy="82548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utte le cattedre devono essere di 18 ore fronta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che se viene meno la continuità didat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7B20-C153-47B1-B3E4-E16DD7A790A5}" type="slidenum">
              <a:t>11</a:t>
            </a:fld>
          </a:p>
        </p:txBody>
      </p:sp>
    </p:spTree>
  </p:cSld>
  <p:transition spd="med">
    <p:dissolv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72880" y="1488960"/>
            <a:ext cx="8569440" cy="4597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ersonale tecnico amministrati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agliato del 17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5840" y="2565360"/>
            <a:ext cx="8569080" cy="82548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iusura delle piccole scuole isol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i comuni gli oneri dei trasporti, agli utenti i disagi degli sposta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6120" y="3860640"/>
            <a:ext cx="8569440" cy="4597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alzamento generalizzato de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umero di alunni per clas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1160" y="620640"/>
            <a:ext cx="8569080" cy="4597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 inoltre per tutti gli ordini di scuol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6120" y="4797360"/>
            <a:ext cx="8569440" cy="4597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tagli complessivamente ammonteranno a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 miliardi di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708520"/>
            <a:ext cx="8569080" cy="4597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30 mila lavorato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deranno il po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9D19-11C1-4BC2-BCC5-1B7E2A6782D5}" type="slidenum">
              <a:t>12</a:t>
            </a:fld>
          </a:p>
        </p:txBody>
      </p:sp>
    </p:spTree>
  </p:cSld>
  <p:transition spd="med">
    <p:dissolv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260280"/>
            <a:ext cx="8569080" cy="4597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il Governo quindi la qualità dell’istruzione si ele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14560" y="4898880"/>
            <a:ext cx="4681800" cy="4597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o il governo dun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32000" y="5789520"/>
            <a:ext cx="4032360" cy="58140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no = Megl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2057400"/>
            <a:ext cx="3960720" cy="4597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ducendo il tempo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197000"/>
            <a:ext cx="3744720" cy="4597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liando i finanzia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1197000"/>
            <a:ext cx="4824360" cy="4597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mentando gli alunni per cla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3760" y="2060640"/>
            <a:ext cx="3600360" cy="4597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udendo sedi e ple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2997360"/>
            <a:ext cx="5761080" cy="4597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ducendo il numero degli insegna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878280"/>
            <a:ext cx="8066160" cy="4597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si c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oppa scuo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cesse male all’istr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A884-CF25-4355-A7D1-98FDA153CA13}" type="slidenum">
              <a:t>13</a:t>
            </a:fld>
          </a:p>
        </p:txBody>
      </p:sp>
    </p:spTree>
  </p:cSld>
  <p:transition spd="med">
    <p:dissolv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7440" y="446040"/>
            <a:ext cx="8569440" cy="82548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e equazione non viene però mai applicata quando si devono trasferire fondi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99000" y="1611360"/>
            <a:ext cx="1512720" cy="4597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1611360"/>
            <a:ext cx="2016360" cy="4597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ze ar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27640" y="1608120"/>
            <a:ext cx="1297080" cy="4597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c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7920" y="2370240"/>
            <a:ext cx="8569080" cy="82548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temente in tali settori non ci sono sprechi, l’efficienza è al massimo, tutti sono bravissimi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5840" y="3543480"/>
            <a:ext cx="4573440" cy="4597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ultimo appunto sul me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5840" y="4254480"/>
            <a:ext cx="8607240" cy="119124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anovra Gelmini – Tremonti si sostanzia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ue decreti leg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nvertiti c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oto di fiduc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vvero con zero dibattito e zero interloc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080" y="5775480"/>
            <a:ext cx="8607240" cy="82548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utto ciò, nonostante le minacce di chiamare la celere, si può rispondere s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2233-B494-4750-AB48-B2930B842620}" type="slidenum">
              <a:t>14</a:t>
            </a:fld>
          </a:p>
        </p:txBody>
      </p:sp>
    </p:spTree>
  </p:cSld>
  <p:transition spd="med">
    <p:dissolv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89080" y="1484280"/>
            <a:ext cx="8569080" cy="155628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artecipando in massa alle agitazion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6120" y="4105440"/>
            <a:ext cx="8569440" cy="155628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 partire dallo sciopero del 30 ottob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19A0-4F2C-4F4B-B213-1AD337E682F6}" type="slidenum">
              <a:t>15</a:t>
            </a:fld>
          </a:p>
        </p:txBody>
      </p:sp>
    </p:spTree>
  </p:cSld>
  <p:transition spd="med">
    <p:dissolv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0920" y="620640"/>
            <a:ext cx="8569080" cy="82548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ovra Gelmin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n è un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for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lla scuola perché non si fonda su alcun disegno pedagogico o cultu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1773360"/>
            <a:ext cx="8569080" cy="82548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a si pone esclusivamente finalità di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isparmio economi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ttenuto tramite una secca riduzione dei servizi scolastic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3068640"/>
            <a:ext cx="8569080" cy="155700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articolo 64 della legge 133/08, che disciplina la manovra, è è infatti inserito nel capo II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nimento della spesa per il pubblico impie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, a sua volta contenuto nel titolo III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bilizzazione della finanza pubbl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della legge stes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5045040"/>
            <a:ext cx="8569080" cy="119124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anovra si inserisce nel più ampio contesto di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agli alla spesa pubbl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alizzati attraverso l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quidazione dello stato soci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7199-BE09-4331-BCA1-10FB3A8E5354}" type="slidenum">
              <a:t>2</a:t>
            </a:fld>
          </a:p>
        </p:txBody>
      </p:sp>
    </p:spTree>
  </p:cSld>
  <p:transition spd="med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260280"/>
            <a:ext cx="8569080" cy="22885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 qui lo Stato italiano aveva fatto la scelta di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a scuola di qualità per tut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mpresi alunni diversamente abili), con progetti formativi ampi e tempi lunghi, che configurava un’idea di democrazia e di cittadinanza potenzialmente capace anche di ridurre le diversità sociali, secondo il dettato della Costituzi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3111480"/>
            <a:ext cx="8569080" cy="82548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lla nuova scuola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zializz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ognuno torna invece a fare affidamento solo sui mezzi che gli offre la famigl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4653000"/>
            <a:ext cx="8569080" cy="192276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re il governo ripropone sostegni di stato a banche e grandi imprese private, la Gelmini aiuta Tremonti a reperire i fondi da girare a Confindustria, tagliando istruzione, università e ricerca, che sono le basi dello sviluppo economico, civile e sociale di ogni paese democratico avanza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FF9D-BB5D-411A-AB07-44EDF89C38D1}" type="slidenum">
              <a:t>3</a:t>
            </a:fld>
          </a:p>
        </p:txBody>
      </p:sp>
    </p:spTree>
  </p:cSld>
  <p:transition spd="med"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260280"/>
            <a:ext cx="8569080" cy="155700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santi tagli agli organic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lla scuola (meno 87.341 docenti e 42.500 tecnici ed amministrativi) vengono giustificati con una serie di motivazioni sull’andamento della spesa per l’istruzione assolutamente fa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2205000"/>
            <a:ext cx="8569080" cy="119124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spesa del Ministero dell’Istruzione non è fuori control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 ha già subito una significativa contrazione, passando dal 1990 al 2007 dal 3,9% al 2,8% del P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3716280"/>
            <a:ext cx="8569080" cy="155700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llo stesso period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numero complessivo di alunni non è diminui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 anzi è leggermente cresciuto (+ 2% pari 152.246 alunni), mentre invece è diminuito  il numero degli insegnanti (-2,38% pari a 17.651 docent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5548320"/>
            <a:ext cx="8569080" cy="119124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spesa per il personale non rappresenta il 97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lla spesa pubblica complessiva destinata all’istruzione, bensì il 73,8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BDC3-7FFB-412E-99FD-FB3C04125E28}" type="slidenum">
              <a:t>4</a:t>
            </a:fld>
          </a:p>
        </p:txBody>
      </p:sp>
    </p:spTree>
  </p:cSld>
  <p:transition spd="med"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260280"/>
            <a:ext cx="8569080" cy="155700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spesa per alunno è più alta della media OCSE solo nella scuola prima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entre è invece nella media OCSE per la secondaria di primo grado ed addirittura sotto la media nella secondaria di secondo gr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133720"/>
            <a:ext cx="8569080" cy="4597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i dati vanno inoltre approfondi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3213000"/>
            <a:ext cx="8569080" cy="265428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Italia gli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unni disabi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no inseriti nelle classi norma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entre in molti paesi frequentano scuole speciali, esterne al sistema di istruzione e quindi non considerate nelle comparazioni internazionali sulla spesa. Questa scelta di civiltà del nostro paese ha i suoi oneri: il 18% dei docenti è legato infatti all’inserimento nelle classi normali degli alunni disabi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7D01-7C45-47CE-8F6C-B8581A62B01C}" type="slidenum">
              <a:t>5</a:t>
            </a:fld>
          </a:p>
        </p:txBody>
      </p:sp>
    </p:spTree>
  </p:cSld>
  <p:transition spd="med"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0920" y="260280"/>
            <a:ext cx="8569080" cy="192276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costo per i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sonale parascolasti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d esempio assistenti di mensa ed educatori) ed il costo dei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ocenti di religi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0.000 in Italia) in molti paesi non grava sul sistema di istruzione e non viene pertanto computato nei costi per alun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2611440"/>
            <a:ext cx="8569080" cy="4597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parole vanno dette però anche sulle indagini OC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3403440"/>
            <a:ext cx="8569080" cy="119124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 i 30 membri dell’OSCE ci sono paesi molto avanzati, come Danimarca, Giappone, Usa e Svizzera, assieme ad altri più arretrati, come Messico, Turchia, Slovacchi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1800" y="5049720"/>
            <a:ext cx="8569440" cy="82548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paese del G8 come l’Italia dovrebbe avere come riferimento la testa del gruppo e non la sua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347D-BAE6-4FC4-877A-CF57A25E735B}" type="slidenum">
              <a:t>6</a:t>
            </a:fld>
          </a:p>
        </p:txBody>
      </p:sp>
    </p:spTree>
  </p:cSld>
  <p:transition spd="med"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260280"/>
            <a:ext cx="8569080" cy="82548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ltre la spesa complessiva per l’istruzione (dalla scuola materna all’università) resta in Italia tra le più bas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5846760"/>
            <a:ext cx="4679640" cy="82548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a in rapporto al totale della spesa pubbl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4920" y="1197000"/>
            <a:ext cx="5545080" cy="4470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600880" y="1125360"/>
            <a:ext cx="3543120" cy="5153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630760" y="6318360"/>
            <a:ext cx="3456000" cy="4597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 in rapporto al P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408640" y="4865760"/>
            <a:ext cx="0" cy="574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24360" y="5119560"/>
            <a:ext cx="574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32640" y="5057640"/>
            <a:ext cx="2340000" cy="12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9440" y="2081160"/>
            <a:ext cx="50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Education at a glance 2008: OECD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24040" y="253044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ww.oecd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2B3A-9867-4686-AB4E-98199E63C7F9}" type="slidenum">
              <a:t>7</a:t>
            </a:fld>
          </a:p>
        </p:txBody>
      </p:sp>
    </p:spTree>
  </p:cSld>
  <p:transition spd="med">
    <p:dissolv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7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63520" y="404640"/>
            <a:ext cx="8569440" cy="4597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diamo allora i provvedimenti principali della manov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052640"/>
            <a:ext cx="8569080" cy="4597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uola dell’infanz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080" y="1700280"/>
            <a:ext cx="8569080" cy="119124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ipotizza un taglio netto del servizio che passa dalle attuali 8 ore al giorno, con due insegnanti per sezione, a 4 ore al giorno con un solo insegn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3141720"/>
            <a:ext cx="8569080" cy="4597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uola prim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3860640"/>
            <a:ext cx="8569080" cy="82548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 de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empo pie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 40 ore settimanali e 2 insegnanti per classe, che portano avanti una programmazione uni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1920" y="5049720"/>
            <a:ext cx="8569080" cy="119124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 dei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odu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 27-30 settimanali e 3 insegnanti, specializzati in differenti aree disciplinari, che si alternano ogni due classi in modo coordin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E1A2-32E4-4679-BBDC-2481A8E2CF74}" type="slidenum">
              <a:t>8</a:t>
            </a:fld>
          </a:p>
        </p:txBody>
      </p:sp>
    </p:spTree>
  </p:cSld>
  <p:transition spd="med">
    <p:dissolv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0920" y="404640"/>
            <a:ext cx="8569080" cy="82548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servizio sarà invece limitato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4 ore settimana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 u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estro u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1660680"/>
            <a:ext cx="8569080" cy="155700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eventuali attività pomeridiane, realizzate solo se ci saranno i fondi, saranno una riedizione de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oposcuo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trattenimento e sorveglianza), completamente slegato dalla programmazione del matt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3686040"/>
            <a:ext cx="8569080" cy="82548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ritorna a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embiuli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ossa propagandistica e demagogica, priva di qualsiasi valenza educ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5049720"/>
            <a:ext cx="8569080" cy="119124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alutazi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mpresa la condotta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torna in nume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ancellando 30 anni di dibattito pedagogico sulla valenza formativa del valutare per obiettivi e per compet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50B9-D189-459B-ACEA-081F7EA0EA3B}" type="slidenum">
              <a:t>9</a:t>
            </a:fld>
          </a:p>
        </p:txBody>
      </p:sp>
    </p:spTree>
  </p:cSld>
  <p:transition spd="med">
    <p:dissolv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17:40:14Z</dcterms:created>
  <dc:creator>ENRICO CAMPOLMI</dc:creator>
  <dc:description/>
  <dc:language>en-US</dc:language>
  <cp:lastModifiedBy>user</cp:lastModifiedBy>
  <dcterms:modified xsi:type="dcterms:W3CDTF">2008-10-29T08:23:11Z</dcterms:modified>
  <cp:revision>46</cp:revision>
  <dc:subject/>
  <dc:title>Diapositiva 1</dc:title>
</cp:coreProperties>
</file>